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E7C-0603-4D84-B117-5DC60157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AC8-63E3-43C6-A2EA-B3C9E39C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BF6-567D-4B3C-AFA6-6BAFE4E1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51B8-AF1F-4F65-AB90-233884AC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701F-F37B-4F8C-8C69-C9E1CC9F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B6B4-2E65-4F7E-A7DD-0BB5F51A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0419-7E83-49F5-BA1C-4F7602A3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505D-499B-4A48-98D5-134E2D76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969-4911-428D-B4C1-435F2B5D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C5D2-C441-40F3-AE13-38F636C7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59A8-612F-47B5-932C-3969BCED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B9A6-B8CD-4843-B309-9D0AFC22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3828-0057-4731-B5CB-9593B1CEB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oh.govt.nz/obesity" TargetMode="External"/><Relationship Id="rId2" Type="http://schemas.openxmlformats.org/officeDocument/2006/relationships/hyperlink" Target="http://www.moh.govt.nz/obesity" TargetMode="External"/><Relationship Id="rId3" Type="http://schemas.openxmlformats.org/officeDocument/2006/relationships/hyperlink" Target="http://www.moh.govt.nz/obesity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reakingnews.com/Fat-Girl-Pictures-6592.asp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E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-100080"/>
            <a:ext cx="6913800" cy="69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acts…. N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ke notes 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oh.govt.nz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obe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ac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orld Health Organization now describes the prevalence of obesity as an epidemic. There's been a rise in obesity in New Zealand in recent decades - from 9% (males) and 11% (females) in 1977 to 20% and 22% respectively in 2003.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ac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2006/07 New Zealand Health Survey found that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in three adults were overweight (36.3%) and one in four obese (26.5%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in five children aged 2 to 14 years were overweight (20.9%) and one in twelve was obese (8.3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act 3 ad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2006/07 New Zealand Health Survey found that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in four adults were obese (26.5%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1.7% of Māori adults were obe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3.7% of Pacific adults were ob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1% of Asian adults were obe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cific men and women were two and a half times more likely to be obese than men and women in the total popu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āori men and women were one and a half times more likely to be obese than men and women in the total popu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has been an increase in the prevalence of obesity for men and women from 1997 to 2006/07, adjusted for age, but the rate of increase appears to be slo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act -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2006/07 New Zealand Health Survey found that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in twelve children (aged 2 to 14 years) were obese (8.3%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in five children were overweight (20.9%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has been no change in the average (mean)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BM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children aged 5-14 years since 200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has been a decrease in average BMI for Māori children. (but press?????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justed for age, Pacific boys and girls were at least 2.5 times more likely to be obese than boys and girls in the total popu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āori boys and girls were 1.5 times more likely to be obese than boys and girls in the total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5391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184720" cy="75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Fat Girl pictur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0"/>
            <a:ext cx="47624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1400"/>
            <a:ext cx="932508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00:45:45Z</dcterms:created>
  <dc:creator>Marcellin College</dc:creator>
  <dc:description/>
  <dc:language>en-US</dc:language>
  <cp:lastModifiedBy>sullivang</cp:lastModifiedBy>
  <dcterms:modified xsi:type="dcterms:W3CDTF">2011-08-24T02:15:05Z</dcterms:modified>
  <cp:revision>6</cp:revision>
  <dc:subject/>
  <dc:title>Slide 1</dc:title>
</cp:coreProperties>
</file>